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C9F1-4B0B-4141-A600-32456CC1FE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41821-0DB8-4D1A-8D5A-06DFA189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01BCD-0F6A-444F-A562-C94CDCD4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C283-74DB-456F-B5A0-CAE94BD926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E663-A67E-4735-8AB0-63E18F0E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29D56-306C-44E9-9AF4-47478954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966F7-076F-4FA7-ACFA-577B80DB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04C3-6B01-409F-962C-89C8B0C6E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B90DB-47B7-4C46-9C60-91514D11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BB00-BF8A-4BAC-B63B-49D4269D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D8C6-AC43-43B5-8032-6022E6CA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9643A-B24E-432C-B228-A359DFE0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240B-F8FD-40F5-8BEE-428482C5C1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抗高血压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引起眩晕、头痛、疲倦、失眠、多梦、抑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大剂量时可引起血糖、血脂代谢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慢性阻塞性肺疾病、周围血管疾病、糖代谢紊乱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禁忌证包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品过敏者、心源性休克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Ⅱ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度房室传导组滞、病态窦房结综合征、支气管哮喘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000080"/>
            <a:ext cx="86108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服用本药可引起心率减慢，一般若无明显不适时，静息心率≥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次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可用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使用本药前应详细询问病史，非活动期的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OPD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患者在服用时应密切监测呼吸道症状、体征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量和减量均应逐步进行，尤其在患者合并心衰时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和其他影响心率的药物，如胺碘酮、地高辛等合用时，应特别注意心率的变化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利尿剂合用时，应监测血糖和血脂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卡托普利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aptopril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开搏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转化为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减少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生成，从而抑制血管收缩，并减少醛固酮的分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缓激肽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，使激肽蓄积，以及增加前列腺素及其代谢产物生成，处使血管扩张，血压下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血管紧张素转换酶抑制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降压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同时不伴有反射性心率加快，不产生体位性低血压，心排出量不变或略增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减少心、脑、肾等重要脏器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易引起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扩张冠状动脉，改善心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是伴有心肌梗死后、心力衰竭、糖尿病、肾病及蛋白尿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独应用或与其他降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肾脏损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高血钾：多见于肾功能不全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血管神经性水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13840" y="980640"/>
            <a:ext cx="861084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：较常见，与缓激肽蓄积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皮疹、味觉异常、眩晕、头痛、心悸、粒细胞减少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绝对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对其他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敏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严重肾功能不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高钾血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双侧肾动脉狭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孕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单侧肾动脉狭窄、心脏瓣膜重度狭窄者慎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咳是服用本药最常见的不良反应，大部分患者可以耐受，不能耐受者考虑换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神经性水肿虽然不常见，但可能致命，应加强警惕，出现后应立即停药，可给予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：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000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肾上腺素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0.3~0.5ml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皮下注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ACEI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类药物有致畸作用，应指导妊娠者避免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于有轻度肾功能不全者，监测肾功能和血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四节 血管紧张素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II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拮抗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沙坦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Losartan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科素亚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非肽类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）拮抗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通过可逆性、竞争性阻断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与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结合，抑制血管紧张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血管收缩及醛固酮分泌作用，使肾素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活性减弱而起到抗高血压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还可具有抗心力衰竭、保护肾、保护血管内皮、抗心血管重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合于伴有糖尿病、蛋白尿、左心室肥厚、服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咳嗽的高血压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单用或其他抗高血压药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应用于心力衰竭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耐受性良好，不良反应轻微而且短暂，一般不需终止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如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服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~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达到最大降压效应，应向患者说明上述情况，打消疑虑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血管性水肿少见，若出现应立即通知医生，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若患者出现低血压与心动过速，可能出现药物过量，应及时报告医生，予以减量或停药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轻度肾功能不全服药后须定期监测血肌酐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保钾利尿剂、补钾药或含钾药物合用时，会使血钾升高，定期监测血钾水平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严重缺钠和（或）血容量不足的患者用本药治疗偶可出现症状性低血压，治疗前应先予以纠正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降压药物的作用、作用机制及临床应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常用各类降压药物代表药的作用特点、不良反应和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降压药物的分类及代表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类型降压药的作用及应用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五节 钙通道阻滞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980640"/>
            <a:ext cx="861048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硝苯地平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Nifedip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拜新同、心痛定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干扰钙离子内流，降低心肌或血管平滑肌细胞内的钙离子水平，从而改变心肌收缩性和血管张力，血管扩张，使降低血压，可扩张冠状动脉，缓解心绞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类型的高血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是老年高血压，单纯收缩期高血压，伴有周围血管病、妊娠、心绞痛、颈动脉粥样硬化的高血压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对顽固性、重度高血压也有较好疗效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一般短暂而温和，通常发生在治疗开始阶段，大多数反应与剂量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面部潮红、心悸、心动过速，主要因为动脉扩张所致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踝、足、小腿水肿较多见，反应短暂，利尿剂可减轻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有牙龈炎或牙周炎的者，可能会引起轻度的牙龈增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数患者出现可有胸痛、皮疹、瘙痒、便秘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071360"/>
            <a:ext cx="86104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本药或其他钙通道阻滞剂过敏，严重主动脉瓣狭窄，低血压，心源性休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普通片剂即速效制剂不宜用于高血压的长期治疗，在高血压急症的患者口服这种制剂对症处理时，应监测血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缓释或控释剂型应该整片服用，指导患者勿掰开或嚼碎，否则可能引起血压明显降低及上下波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观察患者是否有反射性交感兴奋、心率加快甚至心绞痛。必要时加用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控制心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该药不宜骤停，以免发生反跳现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告知患者下肢肿胀与药物本身的扩张血管特性有关，而非肾功能损害引起。加用利尿剂可能减轻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保持良好的口腔卫生，可以降低牙龈增生发生率及其严重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28400" y="1428840"/>
            <a:ext cx="83581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要列出临床常用的抗高血压药有哪几类？每类举出代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卡托普利的降压机制、临床应用、药疗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硝苯地平的降压作用特点，常见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普萘洛尔的降压机制、主要适应证及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5.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利尿药的降压机制及其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6.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抗高血压药物的降压治疗原则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降压药物包括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钙通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转换酶抑制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CEI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紧张素受体阻滞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ARB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由上述药物组成的固定配比复方制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α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或其他种类降压药有时亦可应用于某些高血压人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利尿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氢氯噻嗪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(Hydrochlorothiazid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理作用和作用机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早期降压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排钠利尿造成体内钠水负平衡，使细胞外液和血容量减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持续降低的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利尿排钠造成血管平滑肌细胞内的钠减少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N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-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交换减少，细胞内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</a:t>
            </a:r>
            <a:r>
              <a:rPr b="0" lang="en-US" sz="2800" spc="-1" strike="noStrike" baseline="30000">
                <a:solidFill>
                  <a:srgbClr val="046ca6"/>
                </a:solidFill>
                <a:latin typeface="Times New Roman"/>
                <a:ea typeface="华文新魏"/>
              </a:rPr>
              <a:t>2+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含量降低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s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血管平滑肌舒张而降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临床应用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单独应用于轻度高血压，或作为基础降压药与其他降压药配合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特别适用于老年高血压、单纯收缩期高血压及伴有充血性心力衰竭的高血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心力衰竭的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584000" indent="-226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一般不良反应有乏力、眩晕、头痛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长期用药可引起血钾、血氯、血钠和血镁降低；血尿酸、血糖及血脂等升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老年人对该药降压作用与电解质改变较敏感，应密切观察肾功能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磺胺类药物、呋塞米、布美他尼、碳酸酐酶抑制剂有交叉过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少见中性粒细胞减少、血小板减少性紫癜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监测血电解质、血糖、血尿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合用时，对血脂、血糖及尿酸的影响增强，应注意监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因突然停药可引起水钠潴留，应指导患者缓慢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应早晨给药，以免夜间排尿次数多，影响睡眠，不利血压控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</a:t>
            </a:r>
            <a:r>
              <a:rPr b="1" lang="en-US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β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受体阻断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美托洛尔（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metoprolol</a:t>
            </a:r>
            <a:r>
              <a:rPr b="1" lang="zh-CN" sz="3200" spc="-1" strike="noStrike" u="sng">
                <a:solidFill>
                  <a:srgbClr val="0070c0"/>
                </a:solidFill>
                <a:uFillTx/>
                <a:latin typeface="Times New Roman"/>
                <a:ea typeface="华文新魏"/>
              </a:rPr>
              <a:t>，倍他乐克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心脏选择性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阻滞剂，通过以下几个方   面发挥降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心排血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肾素释放，降低血浆肾素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阻断中枢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降低外周交感活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减少去甲肾上腺素释放以及促进前列环素生成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071720"/>
            <a:ext cx="86108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单独或与其他降压药联合应用治疗各种类型的高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特别适用于伴有心绞痛、心肌梗死后、快速心律失常、充血性心衰的高血压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心力衰竭、心绞痛、心律失常的治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禁忌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(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脏方面：窦性心动过缓、房室传导阻滞、低血压，诱发及加重心力衰竭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加剧哮喘与慢性阻塞性肺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8T03:14:14Z</dcterms:modified>
  <cp:revision>3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